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F30-7EB4-45A5-BE34-8A136222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2A00-7A81-4A32-8A14-6307EE84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091-0095-4F71-9ED3-E4590D6E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858-AAB6-4110-B9AB-4B211154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8513-09B2-4D3D-8776-7A7A84F2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BD00-0C76-42AB-8F9F-B4AC3CFF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3807-9D68-40E8-A610-7E036401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DA3A-1626-4B71-A6EA-A2D341EE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5115-5BEA-49B5-A193-910135CF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ED59-4D0A-4FDD-AD82-667C4A36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C35E-BFDB-449D-BD76-CBAED565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BB1-B008-474C-8FAE-D8091484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F1BF-D808-415A-9675-B401E8C2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D7FD-90EA-41C4-89C7-BEB9614E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75A5-D3C1-4B90-BC37-52E5376A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8662-29A8-4A49-8518-B229B7F1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6E26-BB3C-49C4-841D-DA8FE283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65D-93E1-401F-9C38-3BFD8F2E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BEA-7249-46E4-96F6-367B557F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7A6-BD27-4117-A0BD-3BCD1594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A31-9B28-4192-A1AC-93CDE418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A4E-8CE7-4E42-9B1B-B5C875E3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E41-BE41-4515-B192-40FCEB66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E17-E83D-4626-9BF5-CB30C759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2AD0-3BA4-4B27-BD60-1DB182225FE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FCFE-C2AC-4D16-ACC0-267D498A9BB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13712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Go Tell The Good News</a:t>
            </a:r>
            <a:br>
              <a:rPr sz="48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ummary of Romans (Chapters 1-7)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Quarter 12, Lesson 7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Rom. 1-7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ages 167-17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utting Off S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is no victory if we continue in sin 6: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rist died so that we would no longer be slaves to sin vs. 3-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let sin reign over your being vs. 1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yourself a good example of righteousness to God vs. 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scape sin through grace vs. 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utting Off S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use human weakness as an excuse to keep sinning 6: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abstain from sin and serve God, you will be granted eternal life vs. 2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are weak alone 7:15, 7:2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’s wrath is for those who do not heed his word and follow hi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are weak and sinful creatures who without Christ will peris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th Christ we can become righteo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become righteous we must first put on Christ, and then through faith and trust in God we can achieve that go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tline Of Romans (1-7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eeting 1:1-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ression of Wish to Visit 1:8-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’s Wrath and Judgment 1:18-32, 2:1-16, 3:1-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dressing the Jews 2:17-29, 3:9-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ighteousness through Faith 3:21-26, 4:1-25, 5:1-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roblem and Solution of Sin 5:6-21, 6:1-23, 7:1-2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 did not start the church at Ro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 had tried to visit this congregation many ti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ote the book of Romans in the winter of A.D. 57 while at Corinth on his third missionary journe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iscilla and Aquila are back in Ro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lled to be an apost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sus was born of David’s se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have received grace from Chri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sh To Vis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 wants to be with those in Rome if it be God’s will 1: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wishes to be with them for mutual encouragement - vs. 1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has tried to come before but was unable - vs. 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is anxious to preach to them - vs. 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od’s Wrath On The Unrighteou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wrath of God will be released on all those who continue in their unrighteousness vs. 1:1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because they knew God but did not glory in him or acknowledge his greatness vs. 2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changed the glory of God into a corruptible image vs. 2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gave themselves up to vile passions and the most base sins vs. 26-3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Judg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judge one another or you condemn yourself to the same 2: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one will escape judgment vs. 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r hardness of heart will seal your fate vs. 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not hide from God vs. 1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Je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Jews are just as bad as the Gentil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ircumcision has no bearing on a man’s fai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ws and Gentiles are under the same la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ghteousness Through Fai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raham was accounted righteous because of his faith 4: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be ashamed of your faith 1:1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lose faith in times of trouble 5: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rist died for us so we would have the chance to obtain faith and hope, even while we were in sin 5: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03:30:32Z</dcterms:created>
  <dc:creator>Tab L. Vines</dc:creator>
  <dc:description/>
  <dc:language>en-US</dc:language>
  <cp:lastModifiedBy>Frank D Vines</cp:lastModifiedBy>
  <dcterms:modified xsi:type="dcterms:W3CDTF">2007-01-28T14:36:30Z</dcterms:modified>
  <cp:revision>20</cp:revision>
  <dc:subject/>
  <dc:title>Go Tell The Good News Summary of Romans (Chapters 1-7) Quarter 12,Lesson 7 Rom. 1-7 Pages 167-172</dc:title>
</cp:coreProperties>
</file>